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700563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70056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EF23-790B-478E-92F6-CA8511ADE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6560-1688-4092-B187-CC7628D53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9F72-FD34-49ED-9C58-54985BBF4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ering:  public employees do not relinquish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mendment rights to comment on matters of public interest by virtue of government emplo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ering Balanc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harmony on the work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 responsibility require close working relationship/ speech would cause that to deterio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, manner, context of the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in which the dispute a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gree of public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ther speech impeded the employee’s ability to perform his or her du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peech which is part of the curriculum in the classroom is of private concern (Pickering doesn’t app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4DA0-EED9-4015-8049-FB737F9C2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A082-44DA-4A98-9FC4-DDA8FD6BA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o Privac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fundamental right.  Government restraint of privacy can only be justified by showing that there is a “compelling state interest”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o maintain privacy in what information thy wish to give out to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o perform or not perform certain acts, or subject themselves to certain experi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4180-F33F-430E-8B7B-8320AB2AA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mendment addresses “privacy”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C35E-29DD-4FDE-BBEB-0D4F75F5A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EBD8-16BC-4890-8BDE-BA843930F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oes an employer have to accommodate the religious beliefs of an employe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et Cooper became a Sikh – wore white clothes, and turban as a part of her religious practice.  State law prohibiting the wearing of religious garb at work as a teacher.  Had been warned and continued to violate the law. She was suspended, reported to the SPI and her certificate was revok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F9CC-F3BA-421C-A0A8-4FF140307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D5CA-063E-48EC-A213-93050A6B7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D35E-AFC1-472B-BCA4-16C136ECE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A13B-B59C-4EB9-A832-2EAB1EEC4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BA54-015E-496B-878C-E321C2941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310E-C36C-4A53-B7B1-DB25AD83E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4C5A-8015-4473-8524-8BF45372C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CC4A-8B1F-4A2D-8D76-B61EE4DDC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1098-B43B-4E24-9564-078E12E6C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fired for sending a letter to the local newspaper that was critical of school officials in how funds were ra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must show compelling state interest when it is a matter of public conc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is different with administrators than with teac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 found that it violated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mendment – public conc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e: no harm to operation of school, nor did it affect Teacher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AFFB-A596-4237-A2FD-E89074418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4129-493D-4DB4-87A2-B355D6598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torney (Asst DA) oppsed her transfer to prosecute in another area of law; distributed a questionnaire to other asst DA, soliciting information about morale, etc, terminated for insubordination.  Court upheld her termination – not public concern, but private intere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60DD-8432-4C35-A591-242AB5A63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ing termination of public employee for exercise  of their free speech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38BF-68D4-4AD4-A185-3ACF7D788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399-EEE5-4B72-B653-02C7D34B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DBA-38A3-4B36-940A-4F99D2DD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CD2B-FAEC-4DC5-8CA0-FCBE0393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7A0-25B4-4155-AE16-F4BD2A93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6A32-65BA-46D6-90AD-6FBCB2FA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7E8F-A402-468A-92D0-1094EA66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97DF-BED8-4527-BB84-38A8CE80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EC6E-7AA5-4E60-8DD9-A3282CC4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DD17-59E5-4EE8-8F2C-55638861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BFDF-7304-418C-B49C-35D0A758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B013-3C23-4404-9F61-6525BBF4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BCBA-4761-4C71-A8E6-EB842AED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2199-9406-49DF-8126-CCF5F11E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4CB4-84A0-4155-AD3C-D5FDBF72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EED9-E7EC-41EA-9157-547D47C2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26CB-28A0-474A-A4F4-8ADCCFC1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9632-6B1C-4526-AC88-BA6DDB96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7A36C-45F0-4C88-A83D-DD238BA2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CDD98-31FE-40E2-90B5-211B235B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F8848-811D-4665-9017-0AC937FD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FF5FC-A757-4383-8C63-30A7C392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FD7EC-7D7B-454E-87EB-8CA90A93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C78-E4B8-4C10-9AC6-77EBA9F8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36CFE-82B5-4A59-95A2-63F68D3D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9F074-6BC8-4355-9C39-DDFC16FB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76481-9904-4F50-8ED5-8ADD9F8B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D39A8-FB1C-453E-8359-B6D8DF7E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1A030-E0FC-4C6A-AD27-4084B687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BBDEF-65F7-47E9-8C33-8D0E205D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2E3C2-E233-4BE4-A5E3-BF21280B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4724E-B0A4-4E47-A5B0-8E6D1FD4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B26D0-B5FB-4DB5-AB44-F1014A6C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2B0BD-32C1-40B5-BAC4-DF0382EA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A1F-3BEE-47A0-BB7F-9DB7BE89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10756-D547-4CB7-833E-A89CE03E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C4838-F85C-4369-9F40-3371FCF9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44EEE-2A4A-4031-BE75-6F398D35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BD385-BB52-4869-9752-A1E44203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9DD63-860D-470D-82CE-56554BDF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A06B4-AF48-49C9-9098-6A624479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5397D-7B6C-41C1-9EE2-1C192F71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6CD39-B5F5-43CB-AD39-B13E952F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657E2-2DFD-4AC4-8375-F4CEE849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1308D-886C-4854-AB1D-2E5A1385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6329-9C65-44A4-AF53-9EA21BC2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8BD0D-7B13-4D09-BA9F-F48F19EC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E0137-C036-40CB-9F5E-9CE570C6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6D7A2-EE57-4BF4-A7FE-2F173921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6A00C-E780-45D0-957A-09D291CA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B92D3-07A0-4343-9F08-508A3A18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171A8-CCDE-4CE7-9F40-409A2091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92C52-A69D-46CF-A578-EB3B6AA2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10BD1-E147-4326-98EB-F78F21F2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0737F-F88B-485F-9146-361BA550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AA497-840D-4F44-A359-CB61C962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3C3-AE5D-4B91-BCF6-6532A4D4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8980C-8842-4DEA-B731-311FD0C7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C2EDF-85C4-40C2-84A9-48BB3AF8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8AD9D-ADB8-4E39-878B-D012795A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3DA75-643F-4601-9C33-62C321E0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9BDDC-9A80-43E7-8E35-B2179CB3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B83E0-1D6D-4133-89B0-0A47F3F1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AF74B-69BF-410F-BE03-8FBB5146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E2ABC-8CEF-4CC7-8DA3-3E738C2A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6C6D6-7AFE-480A-9240-56D719C2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62E9D-1CCE-455D-8820-B3DCB607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384-5D79-4D1D-B6DA-9ED503A8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9519B-E568-4FAF-A6E4-22F35F1B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30C63-ACB7-423E-B77C-8EEBC365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8FEBB-CD91-4331-A6F0-E0005CE8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90FEF-DA1D-4C6B-B4BC-6019CF53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0A8D7-85A2-4EF2-B5AD-E4644378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8EA5D-C8BE-450F-8945-50E510B5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52432-7066-4730-AE22-12B23005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916F8-7B81-46B7-AFFA-813F6EFF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C61FE-1EF9-4148-9E43-5B959E9A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13BC6-944F-4923-B608-450EB7A6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6BD-13C4-43D6-BFCD-BB8AE63C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EE900-3BCB-42B8-8BAC-302CE6D7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C9841-BE5B-4D11-952B-DED54104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DDBF7-0196-499F-8417-26C745AB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C494C-4CE3-4107-B106-3F42F0C3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AA147-D8AE-4856-9CD4-E45CFF96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B0F7-5A0C-44C5-866C-C9EF42C1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A40A-A5BC-432E-BCF6-12514324160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3979-275C-40F6-B83F-A947E12AAFA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0C28-F528-4405-999E-F4EFA870164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B9E5-1AA9-4135-9D40-38894B377E2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6B92-8342-4F83-9300-84C04DC9C21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3C75-98E6-4781-B2F1-7B88802BCA1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2E6B-91A2-40E5-9E58-3477DE53717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sba.org/MainMenu/SchoolLaw/Issues/Employment/RecentCases/Weingarten-v-Board.asp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eacher Rights and Freedom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295280" y="1676520"/>
            <a:ext cx="74995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eech, Privacy, Religion, Self-Incrimin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562360" y="1066680"/>
            <a:ext cx="3066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72314"/>
                </a:solidFill>
                <a:latin typeface="Gill Sans MT"/>
              </a:rPr>
              <a:t>Private Communication v  Public Communication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77777"/>
                </a:solidFill>
                <a:latin typeface="Gill Sans MT"/>
              </a:rPr>
              <a:t>Givhan v. Western Line School Dist.       SC 197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5" name="Picture 4" descr="C:\Users\Debra\Pictures\Microsoft Clip Organizer\j0178834.jpg"/>
          <p:cNvPicPr/>
          <p:nvPr/>
        </p:nvPicPr>
        <p:blipFill>
          <a:blip r:embed="rId1"/>
          <a:stretch/>
        </p:blipFill>
        <p:spPr>
          <a:xfrm>
            <a:off x="838080" y="1143000"/>
            <a:ext cx="4419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as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Stoman v. Collet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East Hartford Ed. Assoc. v. Brd of 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Seemuller v. Fairfax County Sch. Br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nsba.org/MainMenu/SchoolLaw/Issues/Employment/RecentCases/Weingarten-v-Board.asp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ou be the Judg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647960" y="129528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our district is cutting the budget.  A teacher writes a letter to the editor of the newspaper, which contains factually incorrect statements about extra-curricular expenditures. His principal knows it is factually incorrect. As a result, parents call the principal, angry about the “waste” and “abuse” of the extracurricular program. The principal issues the teacher a written repriman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4" descr="C:\Documents and Settings\Jim\Local Settings\Temporary Internet Files\Content.IE5\TN1RCG14\MPj04225810000[1].jpg"/>
          <p:cNvPicPr/>
          <p:nvPr/>
        </p:nvPicPr>
        <p:blipFill>
          <a:blip r:embed="rId1"/>
          <a:stretch/>
        </p:blipFill>
        <p:spPr>
          <a:xfrm>
            <a:off x="1295280" y="1600200"/>
            <a:ext cx="3353040" cy="4572000"/>
          </a:xfrm>
          <a:prstGeom prst="rect">
            <a:avLst/>
          </a:prstGeom>
          <a:ln w="0">
            <a:noFill/>
          </a:ln>
        </p:spPr>
      </p:pic>
      <p:pic>
        <p:nvPicPr>
          <p:cNvPr id="361" name="~PP3886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91320" y="1981080"/>
            <a:ext cx="27432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72314"/>
                </a:solidFill>
                <a:latin typeface="Gill Sans MT"/>
              </a:rPr>
              <a:t>Right to Privacy</a:t>
            </a:r>
            <a:endParaRPr b="0" lang="en-US" sz="21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3" name="Picture Placeholder 5" descr="j0409717.jpg"/>
          <p:cNvPicPr/>
          <p:nvPr/>
        </p:nvPicPr>
        <p:blipFill>
          <a:blip r:embed="rId1"/>
          <a:stretch/>
        </p:blipFill>
        <p:spPr>
          <a:xfrm>
            <a:off x="835200" y="1139760"/>
            <a:ext cx="4431960" cy="35244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Gill Sans MT"/>
              </a:rPr>
              <a:t>Privacy:  A Fundamental Righ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ivac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acher’s Mental and Physical Examin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s there a rational nexus?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rug Test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Under what circumstances can teachers be tested for drugs?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arch of Teacher Workpla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When can a teachers work place be searched?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aury v. Smi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earch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bable cause in the legal sense not required of work place search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arches OK so long as they are undertaken with some reasonable basis to further the efficient and competent management of the distri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is a legal expectation of privacy with personal items.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Therefore a warrant is needed for such a search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reedom of Relig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600" y="1523880"/>
            <a:ext cx="389916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vil Rights Ac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ither inhibit nor promote relig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gious gar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Cooper  v. Eugene Sch. Dis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C Oregon 198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http://www.sikhnet.com/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lig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ligious freedom has limi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achers must teach approved curriculu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achers can request/be granted accommodations for religious holiday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ules/standards must meet Lemon v Kurtzman tes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ligious garb may or may not be seen as promoting one religion over anoth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rivilege against self-incriminati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Beilan v. Philadelphia Sch. Dist. SC 1958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ight itself does not allow avoidance of questions regarding professional competency or fitness to tea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nvoking 5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amendment in criminal proceeding not necessarily cause for dismiss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School board could dismiss for insubordination if teacher fails to answer questions about fitness to teach/competenc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Morality” or “Fitness to Teach” based on outside activiti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218960" y="1980720"/>
            <a:ext cx="7499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ational nexus between the conduct in question and professional dut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chool Board must establish that the outside activity has a detrimental impact on the teacher’s ability to tea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ad:  Hoagland v. Mount Vernon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 198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Without fear of discipline or termination as a principal, could you: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219320" y="144756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rite a letter to the local paper criticizing Barack Obama’s presidenc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rite a guest column in the school paper citing poor leadership of the superintenden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ive an on-camera interview criticizing the reduction of school librarian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peak at a rally to legalize marijuana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.What if you were a teacher?  Would that change your freedom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499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oagland Factors: Propriety of Discharge for Outside Conduct Determined By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…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ge and maturity of the stud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kelihood that conduct will adversely affect students of other teac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gree of anticipated advers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ximity or remoteness in time of the conduc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tenuating of aggravating circumstan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kelihood conduct will be repea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tive underlying the conduc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illing effect” on rights of teachers involved or other teac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72314"/>
                </a:solidFill>
                <a:latin typeface="Gill Sans MT"/>
              </a:rPr>
              <a:t>Teacher Rights and Freedoms</a:t>
            </a:r>
            <a:endParaRPr b="0" lang="en-US" sz="4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eedo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verned b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e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rrant-less sear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e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stit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utory Relationshi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09480" indent="-28260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ederal, State, Local Law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llective Bargain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72314"/>
                </a:solidFill>
                <a:latin typeface="Gill Sans MT"/>
              </a:rPr>
              <a:t>Teacher Rights and Freedoms</a:t>
            </a:r>
            <a:endParaRPr b="0" lang="en-US" sz="4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ademic Freed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tent of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idely misunderstood and greatly us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ore explicit in higher ed contracts, statut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 K-12, teacher freedoms not explicitly defined beyond the Bill of Righ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eachers must prove “pall of orthodoxy”, or overbearing state interferen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 fontScale="92000"/>
          </a:bodyPr>
          <a:p>
            <a:pPr marL="360360" indent="-25092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overnment can restrict when necessary to fulfill responsibilities to operate effectively and efficiently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0360" indent="-25092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ut cannot restrain free speech in an “open debate”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0360" indent="-25092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Public officials  are not constitutionally required to allow public dissent by their employees if it interferes with governmental opera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ust Bala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6444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eech is a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mendment Righ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ublic concern v Personal inter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mployee’s interest against district inter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Picture 6" descr="C:\Users\Debra\Pictures\Microsoft Clip Organizer\j0300575.gif"/>
          <p:cNvPicPr/>
          <p:nvPr/>
        </p:nvPicPr>
        <p:blipFill>
          <a:blip r:embed="rId1"/>
          <a:stretch/>
        </p:blipFill>
        <p:spPr>
          <a:xfrm>
            <a:off x="4724280" y="3352680"/>
            <a:ext cx="31244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572314"/>
                </a:solidFill>
                <a:latin typeface="Gill Sans MT"/>
              </a:rPr>
              <a:t>Pickering v. Bd. Of Ed.     SC 1968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First 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 Will the statement create problems with maintaining rapport with supervisors or will it create discord among co-work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n B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“Government employer’s need for political allegiance from it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olicy making employees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utweighs the employee’s freedom of expression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exible rule that balances public interest against private inter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572314"/>
                </a:solidFill>
                <a:latin typeface="Gill Sans MT"/>
              </a:rPr>
              <a:t>Mt. Healthy v. Doyle     SC 1977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What prevents an employee from using the exercise of free speech as a pretext to avoid termination from other caus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onduct must be protected and must have been a motivating factor in dismissal.  Conclusion must be that the school board would have reached the same decision in the absence of the misconduct.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nnick v Meyers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C 1983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s the speech a matter of public concer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Yes: Apply Pick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o: Pickering does not app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ill Sans MT"/>
              </a:rPr>
              <a:t>What is the definition of  “a matter of public concern”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8" name="Picture 2" descr="C:\Users\Debra\Pictures\Microsoft Clip Organizer\j0408892.jpg"/>
          <p:cNvPicPr/>
          <p:nvPr/>
        </p:nvPicPr>
        <p:blipFill>
          <a:blip r:embed="rId1"/>
          <a:stretch/>
        </p:blipFill>
        <p:spPr>
          <a:xfrm>
            <a:off x="5549760" y="1523880"/>
            <a:ext cx="311148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peech Test of Public Employe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rden of proof rests on the state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ech can be denied if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nial necessary to prevent “substantial interfer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w standard of proof when public speech on private interest results in adverse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0828440" y="1780920"/>
            <a:ext cx="1915920" cy="3219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C:\Users\Debra\Pictures\Microsoft Clip Organizer\j0439239.jpg"/>
          <p:cNvPicPr/>
          <p:nvPr/>
        </p:nvPicPr>
        <p:blipFill>
          <a:blip r:embed="rId2"/>
          <a:stretch/>
        </p:blipFill>
        <p:spPr>
          <a:xfrm>
            <a:off x="5486400" y="1676520"/>
            <a:ext cx="3352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2T23:38:54Z</dcterms:created>
  <dc:creator>Administration</dc:creator>
  <dc:description/>
  <dc:language>en-US</dc:language>
  <cp:lastModifiedBy>Jim Howard</cp:lastModifiedBy>
  <dcterms:modified xsi:type="dcterms:W3CDTF">2010-03-24T22:07:49Z</dcterms:modified>
  <cp:revision>32</cp:revision>
  <dc:subject/>
  <dc:title>PowerPoint Presentation</dc:title>
</cp:coreProperties>
</file>